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CEF3-349B-4E33-9CF4-5640DE83B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2A90-0B3D-4767-950C-5C48819A0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D1B2-D5CF-4238-A733-1709E857F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D91B-0C37-464C-97AC-6E8A44FE0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13DC-7337-45FA-B6A8-338E34C7F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100B-D716-499F-838B-349B18451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32B6-BEC7-4485-A6CA-71684F706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91AC-AF91-4686-AFC0-E542F4347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1819-48B7-49A4-A646-151CF582B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AECF-68A9-49EB-9E13-1F66E71D8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92FA-73E9-4801-9C72-D7EE15CB0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DC13-1073-414D-A1EC-9E1E3C98C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C0C-4088-4FC0-8120-2A4E9E3155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m/mikehuckab168095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2F90-1CAB-42FA-8BF2-AA097DFE47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3</a:t>
            </a:r>
            <a:r>
              <a:rPr b="0" lang="en-US" sz="3200" spc="-1" strike="noStrike">
                <a:solidFill>
                  <a:srgbClr val="d60093"/>
                </a:solidFill>
                <a:latin typeface="Tahoma"/>
                <a:ea typeface="Tahoma"/>
              </a:rPr>
              <a:t>: </a:t>
            </a:r>
            <a:r>
              <a:rPr b="0" lang="en-CA" sz="3200" spc="-1" strike="noStrike">
                <a:solidFill>
                  <a:srgbClr val="b42478"/>
                </a:solidFill>
                <a:latin typeface="Arial"/>
              </a:rPr>
              <a:t>Programming for Students with Learning Dis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Tuesday 2:45 – 4:4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43000"/>
            <a:ext cx="8686800" cy="976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Consolidation: Fra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lesson #2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280" y="837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partner from a different expert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primary fraction lesson #2 -  its learning goals, math content and what to expect from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ccommodations for this lesson based on all 5 cognitive processes. Use coloured dots to record where accommodations are to be used and write descriptions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AA58-1B29-4331-A77C-D804AEE8FF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: </a:t>
            </a:r>
            <a:r>
              <a:rPr b="0" lang="en-CA" sz="3200" spc="-1" strike="noStrike" baseline="-25000">
                <a:solidFill>
                  <a:srgbClr val="2b5ca9"/>
                </a:solidFill>
                <a:latin typeface="Arial"/>
              </a:rPr>
              <a:t>(For your journal/treasure chest)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scribe three distinct ways you will use the understandings from these plenary/breakout sessions in your tea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EE09-C3D9-4504-BC3A-56AAAFDAD0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242640"/>
            <a:ext cx="944892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2b5ca9"/>
                </a:solidFill>
                <a:latin typeface="Arial"/>
              </a:rPr>
              <a:t>Further Classroom Consolidation</a:t>
            </a:r>
            <a:br>
              <a:rPr sz="4200"/>
            </a:br>
            <a:endParaRPr b="0" lang="en-US" sz="4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t on the implications of the following quote on your teaching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side every human being there are treasures to unlock.”</a:t>
            </a:r>
            <a:br>
              <a:rPr sz="4000"/>
            </a:br>
            <a:r>
              <a:rPr b="0" lang="en-CA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ke Huckabe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22C-197C-4E2E-BAEA-DCFCDAECD6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E63C-509E-4835-98CA-7A154F9DD0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53BE-CC5E-40C6-B400-CD94CE6579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7910-79E7-4A3A-A04A-A062600063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48D-8019-498F-9575-75F9518CD9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18B2-F5BD-4F7F-A5F5-C88091776F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. E. P. </a:t>
            </a:r>
            <a:r>
              <a:rPr b="0" lang="en-US" sz="4400" spc="-1" strike="noStrike" baseline="-25000">
                <a:solidFill>
                  <a:srgbClr val="2b5ca9"/>
                </a:solidFill>
                <a:latin typeface="Arial"/>
              </a:rPr>
              <a:t>(Individual Education Plan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partner that you have not yet m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unique set of words to be represented by the acronym IEP that reflects what Connie and Ruth discussed in the plena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YRCDS: Inclusion Engagement Performance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acronyms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A083-8261-49E1-96B9-81ED59192D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7826-04CA-4A55-84D2-42F222E52A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rticipant Learning Goal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monstrate understanding of 5 cognitive processes; verbal comprehension, perceptual reasoning, working memory, processing speed and visual motor integration and executive functio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pply understanding of 5 cognitive processes to program for students with learning disa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5 Cognitive Proces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u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Speed/Visual Motor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4914-CC03-42E8-BFCB-C3042A954F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Jigsaw Activity: Applying our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Home Groups of 5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the primary fraction lesson -  its learning goals, math content and what to expect from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 slip of the 5 colour coded papers from the set of 5 cognitive processes. You will represent the selected process in the hom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88B1-D187-4398-8CCC-EFCA061F50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5 Cognitive Proces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1523520"/>
            <a:ext cx="922032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al Comprehension (gre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ceptual Reasoning (pin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ing Memory (yello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ing Speed/Visual Motor Integration (blu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ive Functioning (whi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0567-D205-4823-BB93-7517AC6116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Expert Group Activity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me group members split into expert groups organized by cognitive process (about 9 members per expert grou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 groups develop accommodations for the lesson to enable the cognitiv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61C4-E3F0-4C59-A3F5-CE22287F05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ome 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9144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member presents the accommodations of their expert group for the les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mbers record accommod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mbers use coloured dots to track cognitive pro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FE44-CA97-4EEC-8A4E-A166ADA0FB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2819520" y="3733920"/>
            <a:ext cx="624816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Comprehension (g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tual Reasoning (p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Memory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Speed/Visual Motor Integration (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Functioning (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Large Group Report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HA’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id you have as you engaged in this activity? Where were there overlaps in accommod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imary students don’t usually have IEP’s. How can this understanding of cognitive processes be useful in teaching primary g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ACD9-C541-4A7F-91B3-79863A55FB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andy DiLena</cp:lastModifiedBy>
  <dcterms:modified xsi:type="dcterms:W3CDTF">2012-07-08T19:18:59Z</dcterms:modified>
  <cp:revision>26</cp:revision>
  <dc:subject/>
  <dc:title>&lt;Title&gt;</dc:title>
</cp:coreProperties>
</file>